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EA9-8040-40C5-9BFE-FA6DF85F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B58-143A-45BA-A448-2BB68B25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71C-C035-4C2E-84AA-D0E70910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985-7F79-40DC-BE1D-1F499B4D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787-F15A-46CF-BC96-6CCD1515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492-8EEC-48D9-B4AD-9AD97B4C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97F-1C87-451A-83A4-64F64A9D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FDF-B8DE-4313-8653-8430635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445-BD5B-4A34-832D-C08E6A1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59E-C928-499E-93B9-CC90EB04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FE0-959D-44FC-A3B4-89DD224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4C9-9B5B-4C0C-8CC0-E373A1E4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5FDA-8645-4748-8298-A25F60E8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Lightweight Language Spiri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ge Updat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阪府立大学生命環境科学研究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樋口 千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/08/0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於日本教育会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の概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シンタックス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セマンティックスの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一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融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言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ベル研究所が開発した統計処理言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強力なグラフィックス機能、動的スコー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で説明する必要はないでしょう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^_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静的スコープ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、遅延評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 0.49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リリース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1997/4/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在の最新バージョン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5.1(2007/6/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ルチプラットホー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http://www.r-project.org/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配布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dows9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以降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c OS 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NIX(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S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話環境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バッチ処理も可能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の中身を確認しながら操作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数の解析パッケージが公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CR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ioconduc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ネットワークで依存関係にある他パッケージをも自動インスト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個々のパッケージはライセンスが異な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カデミックフリーなど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505320"/>
            <a:ext cx="53316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057400"/>
            <a:ext cx="1447560" cy="1219320"/>
          </a:xfrm>
          <a:prstGeom prst="wedgeRectCallout">
            <a:avLst>
              <a:gd name="adj1" fmla="val -128180"/>
              <a:gd name="adj2" fmla="val 6823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間違え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入力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変なこと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なりま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の概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言語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バージョンアップが頻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ージョンアップの際に整合性が失われることがあ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欠点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はベクトルが基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指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総称関数で様々なさまざまなデータ構造を一貫的に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強力なヘルプ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さまざまな組み込みデ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意味のあるデータを適当に用意するのは困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ソースの参照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言語が活躍する場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マイニング、バイオインフォマティク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オインフォマティクス論文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の実装例が非常に多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言語はベクトルデータが基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言語のオブジェクト指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47160" y="4191120"/>
            <a:ext cx="21009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ータセ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ヤメをがくと花弁それぞれ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幅と長さで三種類の品種に分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1480" y="5257800"/>
            <a:ext cx="225468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ポートベクタマシ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師あり学習を行う識別手法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つ、今回は品種が教師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73040" y="1828800"/>
            <a:ext cx="412164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is.sv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それぞれ異なるクラスオブジェクトだ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はそれぞれに応じた挙動を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590920"/>
            <a:ext cx="6019920" cy="12952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590920"/>
            <a:ext cx="1447920" cy="761760"/>
          </a:xfrm>
          <a:prstGeom prst="rect">
            <a:avLst/>
          </a:prstGeom>
          <a:solidFill>
            <a:srgbClr val="cc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191120"/>
            <a:ext cx="1600200" cy="685800"/>
          </a:xfrm>
          <a:prstGeom prst="wedgeRectCallout">
            <a:avLst>
              <a:gd name="adj1" fmla="val -50097"/>
              <a:gd name="adj2" fmla="val -7314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を目的変数、それ以外を説明変数として学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809880"/>
            <a:ext cx="1066680" cy="3049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696080" cy="5221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言語でのドキュメント探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048120"/>
            <a:ext cx="533520" cy="2286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124080"/>
            <a:ext cx="2133720" cy="381240"/>
          </a:xfrm>
          <a:prstGeom prst="wedgeRectCallout">
            <a:avLst>
              <a:gd name="adj1" fmla="val -122472"/>
              <a:gd name="adj2" fmla="val -31250"/>
            </a:avLst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上記以外のキーワード引数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ッチ、後の関数の引数として使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99720" y="2209680"/>
            <a:ext cx="26496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系内部に豊富なドキュメントが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5486400" cy="1623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55680" y="161136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ワーキングメモリの名前空間上のオブジェクトを検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正規表現利用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905120" y="4876920"/>
            <a:ext cx="483876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486400" y="3124080"/>
            <a:ext cx="3368520" cy="3557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99040" y="4114800"/>
            <a:ext cx="254880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elp.search(“svm”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32200" y="5029200"/>
            <a:ext cx="20793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elp(plot.svm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61560" y="3048120"/>
            <a:ext cx="251064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ample(plot.svm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02760" y="3657600"/>
            <a:ext cx="1034280" cy="520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ヘルプの殆ど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サンプルコード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5221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言語とバイオインフォマティク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454120" cy="2590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72200" y="1143000"/>
            <a:ext cx="2503440" cy="2643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72200" y="3962520"/>
            <a:ext cx="250200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066680" y="4419720"/>
            <a:ext cx="2055960" cy="214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14680" y="2895480"/>
            <a:ext cx="208872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マイクロアレイ解析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場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必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情報システム部</cp:lastModifiedBy>
  <dcterms:modified xsi:type="dcterms:W3CDTF">2007-08-02T04:13:53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