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BF40-3CDB-4394-9C53-FF3F70835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9A8E-758C-4EDD-9109-5F50B2FA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DC74-7EB1-47AB-8CD2-E994938F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AB4D-460B-4431-A1AE-4CCE2134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25BE-A04E-43A0-BA73-F572FF93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A4E4-C4E6-4492-B172-8EA3DE4E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D72A-6C3A-43A5-9E39-DE804A10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D7B6-9F62-4FC1-B0C7-91B819C4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98E6-7E3E-4F8B-AD03-A32B8085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2E4A-DA42-44F6-AA77-9E6C1C53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D970-FD5B-4645-A252-6E48F1E0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45BD-4C40-470F-972E-31C368BA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72C8-2176-4F65-B61F-25AC0E8C2C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Convert PowerPoint file to pdf fi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02:56:55Z</dcterms:created>
  <dc:creator/>
  <dc:description/>
  <dc:language>en-US</dc:language>
  <cp:lastModifiedBy>薛衡</cp:lastModifiedBy>
  <dcterms:modified xsi:type="dcterms:W3CDTF">2005-02-14T02:57:32Z</dcterms:modified>
  <cp:revision>1</cp:revision>
  <dc:subject/>
  <dc:title>Convert PowerPoint file to pdf file.</dc:title>
</cp:coreProperties>
</file>