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B1DF-D2CC-4C88-B0A0-81899581C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C3A4-04B3-4D02-9061-6D5F0E6AA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AE5-7E24-4E65-8A20-89C68649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D73-0715-4C34-92B1-1D1DAE1B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7CD-D147-40B2-B98F-0CB14A14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AA1-4781-4510-892E-44DA913D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40A-7DB6-40AA-8770-A6B9A5E5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300-EA51-4C12-9AA9-9BD825BD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65E-346B-4A4A-A5D5-663AC764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BC7-B483-4616-8779-F62C20C3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A6B-08D7-438B-B6B3-F3BB5A23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9E0-4559-4E19-BC6F-2A271F3D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791-AF61-4734-B229-04C0346A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BBD-420A-4EDA-B322-8AE8793F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3B50-47A5-4D46-98D3-9D6C47655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19436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762120" y="1876320"/>
            <a:ext cx="3378240" cy="3229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Rectangle 1"/>
          <p:cNvSpPr/>
          <p:nvPr/>
        </p:nvSpPr>
        <p:spPr>
          <a:xfrm>
            <a:off x="776880" y="121932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or Picker: No Br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876920" y="12193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or Picker: With Br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762120" y="15228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a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21:25:55Z</dcterms:created>
  <dc:creator/>
  <dc:description/>
  <dc:language>en-US</dc:language>
  <cp:lastModifiedBy/>
  <cp:lastPrinted>2015-01-15T16:41:44Z</cp:lastPrinted>
  <dcterms:modified xsi:type="dcterms:W3CDTF">2015-04-14T10:50:33Z</dcterms:modified>
  <cp:revision>256</cp:revision>
  <dc:subject/>
  <dc:title/>
</cp:coreProperties>
</file>